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721-53F1-484C-A293-16FC4EE2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59D-73F7-4DE6-877F-13887E7D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397-8802-4CEB-A863-449BF42F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ADB-7249-44C9-A686-4B755A8D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05A-444C-4A5B-9993-81F84D47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7C8-93A5-487F-B092-9C8EF96F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3E6-A534-4030-A9DF-C400561A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0C0-07D1-4637-8AD0-70614F2F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280-55E3-42CA-9CB3-E6498383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D1C-F1B4-47B7-82B6-87F00BB3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E2D-1F33-4C49-9F78-2D89D90B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06C-5E45-4B54-9E01-459DFAC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4415-1FB5-414B-BE76-D325F4F28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35053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Nisha Patel’s La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 rot="10800000">
            <a:off x="1219320" y="4723200"/>
            <a:ext cx="21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Tahoma"/>
              </a:rPr>
              <a:t>Marisol lleva una </a:t>
            </a: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camiseta morado</a:t>
            </a:r>
            <a:r>
              <a:rPr b="0" lang="en-US" sz="1800" spc="-1" strike="noStrike">
                <a:solidFill>
                  <a:srgbClr val="993366"/>
                </a:solidFill>
                <a:latin typeface="Tahoma"/>
              </a:rPr>
              <a:t>, y </a:t>
            </a: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blue jeans</a:t>
            </a:r>
            <a:r>
              <a:rPr b="0" lang="en-US" sz="1800" spc="-1" strike="noStrike">
                <a:solidFill>
                  <a:srgbClr val="993366"/>
                </a:solidFill>
                <a:latin typeface="Tahoma"/>
              </a:rPr>
              <a:t>. Ella es morana, flanca, y bo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1484280" cy="261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 rot="10800000">
            <a:off x="5333760" y="4494600"/>
            <a:ext cx="162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Angelia lleva una </a:t>
            </a:r>
            <a:r>
              <a:rPr b="0" lang="en-US" sz="1800" spc="-1" strike="noStrike">
                <a:solidFill>
                  <a:srgbClr val="993366"/>
                </a:solidFill>
                <a:latin typeface="Tahoma"/>
              </a:rPr>
              <a:t>vestido rosado</a:t>
            </a: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. Ella es bonita, morena, y fl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1752480" cy="2629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0" y="3808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a Primave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Wonderful Winter Night Scene 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43200" y="304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Tahoma"/>
              </a:rPr>
              <a:t>El Invier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193032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494496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43434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Abril lleva un </a:t>
            </a:r>
            <a:r>
              <a:rPr b="0" lang="en-US" sz="1800" spc="-1" strike="noStrike">
                <a:solidFill>
                  <a:srgbClr val="66ff66"/>
                </a:solidFill>
                <a:latin typeface="Tahoma"/>
              </a:rPr>
              <a:t>abrigo blanca, gorra negro, y un guantes 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2971800" cy="293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0" y="45720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Amelia lleva un </a:t>
            </a:r>
            <a:r>
              <a:rPr b="0" lang="en-US" sz="1800" spc="-1" strike="noStrike">
                <a:solidFill>
                  <a:srgbClr val="66ff66"/>
                </a:solidFill>
                <a:latin typeface="Tahoma"/>
              </a:rPr>
              <a:t>abrigo roja, un camis, y un blu je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19520" y="6858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l Oto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1457280" cy="224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95280" y="464832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delita lleva </a:t>
            </a: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un abrigo, y un pantal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9720" y="471636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ngelita lleva </a:t>
            </a: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un pantalones roja, un gorra roja, y un abrigo r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7T19:43:15Z</dcterms:created>
  <dc:creator>patelnis</dc:creator>
  <dc:description/>
  <dc:language>en-US</dc:language>
  <cp:lastModifiedBy>patelnis</cp:lastModifiedBy>
  <dcterms:modified xsi:type="dcterms:W3CDTF">2013-01-07T19:49:58Z</dcterms:modified>
  <cp:revision>1</cp:revision>
  <dc:subject/>
  <dc:title>Slide 1</dc:title>
</cp:coreProperties>
</file>